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CEC-F443-4DA6-BD0B-3C4DDDBB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861-B597-41F6-B6E7-B025CCC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154-153E-4FB5-891D-95F36EBC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AC6-F138-4977-8998-D3D32B65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DF76-9F94-4D10-A15F-4AA9D38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D0D5-16B5-4669-A12C-86A9920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150-C1D4-44F4-889B-A14A97B0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3FD-460C-4D85-A42D-5C1AAAF5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DFE-0C01-4D85-A6E0-DF3C4B7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FB3-7AFB-4069-B34D-B1E5EBC4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4956-38DB-4E16-BF6A-70C7A8B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79F-0CD0-42A4-BB85-A7A43459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C9C-ABAC-4D1D-A7C8-5B124EC6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A2E4-1A93-43C6-80DB-886F256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D08D-AE97-4903-A03E-0972050F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B336-489D-4818-A3C7-F80AC727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A168-C2B5-4143-BD66-3A70D4DC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6A8-D204-4B17-A17C-B71185DC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771-E9D0-43E4-AC28-F6DDD5D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277-9609-4C16-AF27-ABF1971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E9E-C5D6-45E6-8D7A-9EC3E69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4F6-7DBE-4816-AC87-B2A8E4D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B4E-F70D-4510-B5FC-254655B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E56-AE9C-45C7-A6D2-FE95F98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97D-D422-4EC0-A54A-4EF5C5F99E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832-B4B0-4A93-9BA5-C29BDB92FB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c8b00"/>
                </a:solidFill>
                <a:latin typeface="Garamond"/>
              </a:rPr>
              <a:t>       </a:t>
            </a:r>
            <a:br>
              <a:rPr sz="4600"/>
            </a:br>
            <a:r>
              <a:rPr b="1" lang="en-US" sz="4600" spc="-1" strike="noStrike">
                <a:solidFill>
                  <a:srgbClr val="bc8b00"/>
                </a:solidFill>
                <a:latin typeface="Garamond"/>
              </a:rPr>
              <a:t>         </a:t>
            </a:r>
            <a:r>
              <a:rPr b="1" lang="en-US" sz="4600" spc="-1" strike="noStrike">
                <a:solidFill>
                  <a:srgbClr val="9e7500"/>
                </a:solidFill>
                <a:latin typeface="Garamond"/>
              </a:rPr>
              <a:t>Проверочный тест</a:t>
            </a:r>
            <a:r>
              <a:rPr b="0" lang="en-US" sz="4600" spc="-1" strike="noStrike">
                <a:solidFill>
                  <a:srgbClr val="9e7500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9e7500"/>
                </a:solidFill>
                <a:latin typeface="Garamond"/>
              </a:rPr>
              <a:t>    по истории 3 класс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42920" y="429264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7500"/>
                </a:solidFill>
                <a:latin typeface="Arial"/>
              </a:rPr>
              <a:t>Разработ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5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500"/>
                </a:solidFill>
                <a:latin typeface="Arial"/>
              </a:rPr>
              <a:t>средней школы №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500"/>
                </a:solidFill>
                <a:latin typeface="Arial"/>
              </a:rPr>
              <a:t>Совет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5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e7500"/>
                </a:solidFill>
                <a:latin typeface="Arial"/>
              </a:rPr>
              <a:t>Лапо Н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21400" y="33336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0760" y="2316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076640"/>
            <a:ext cx="849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ажно бились русские города. И не успел Батый дойти 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вгор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Пришла весна. Разлились реки, невозможно по грязи и распутице идти конному войску, и спасся Великий Новгород от вражеского нашествия. Вернулись назад в степь монгольски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35280" y="981000"/>
          <a:ext cx="47624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81000"/>
                    <a:ext cx="4762440" cy="29624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06880" y="404640"/>
            <a:ext cx="613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Какой город  долго сопротивл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голо – тата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3800" y="214776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А)  Ки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301140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2" action="ppaction://hlinksldjump"/>
              </a:rPr>
              <a:t>Б)  Ряз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0960" y="393372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hlinkClick r:id="rId3" action="ppaction://hlinksldjump"/>
              </a:rPr>
              <a:t>В)  </a:t>
            </a: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hlinkClick r:id="rId4" action="ppaction://hlinksldjump"/>
              </a:rPr>
              <a:t>Козель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353040" y="42552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907920"/>
            <a:ext cx="525600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нь и ночь штурмов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нголы стены города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иева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или в них особ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енобитными орудиями (таранами). Геройски бились киевляне в лютой сече 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енах города. 6 декабр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240 года полно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хватили монголы Киев. Поразился хан Баты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жеству киевлян и велел оставить в живых их воеводу Дмит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8360" y="1268280"/>
          <a:ext cx="3825720" cy="35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268280"/>
                    <a:ext cx="3825720" cy="3527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08680" y="33336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645000"/>
            <a:ext cx="864216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тый послал гонца к рязанскому князю Юрию. Он требовал сдать город и отдать часть всех богатств и людей. Князь гордо ответил: «Когда нас не будет, тогда всё будет ваше». Рязанцы бились храбро, но сил у них было мало. В летописях говорится, что на одного русского воина приходилось сто монголов. 21 декабря 1237 года после пятидневной осад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зан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зяли штурм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0000" y="981000"/>
          <a:ext cx="435456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981000"/>
                    <a:ext cx="435456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35600" y="42552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6880" y="1413000"/>
            <a:ext cx="487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енький 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зель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ра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рмовали семь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00 вражеских вои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ли под ст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зельска, но и защит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а погибли. Вра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ались одни разва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и их хан Батый прика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реть с лица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94172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84720" y="1125360"/>
          <a:ext cx="283068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125360"/>
                    <a:ext cx="2830680" cy="38163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91600" y="692280"/>
            <a:ext cx="67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Что выплачивала Русь Золотой Ор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3440" y="214776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А)  ВЫК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2360" y="3084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2" action="ppaction://hlinksldjump"/>
              </a:rPr>
              <a:t>Б)  НА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1840" y="4005360"/>
            <a:ext cx="21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3" action="ppaction://hlinksldjump"/>
              </a:rPr>
              <a:t>В)  Д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92680" y="49860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15800" y="2028960"/>
            <a:ext cx="683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куп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ыкупить, заплатить день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уть за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лата, деньги, котор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куп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08320" y="42552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23480" y="2532240"/>
            <a:ext cx="698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лог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тановленный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теж, взимаемый с граждан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ридических 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35600" y="49860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6480" y="1341360"/>
            <a:ext cx="49204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се население Руси долж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ыло платить ордынским хан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тяжелу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н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Александр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евский понимал, что у Рус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ет сил сопротивляться Орд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до было откупаться данью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чтобы предотвратить нов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шествия грабителей на Рус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Больше 200 лет нескольк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колений боролись за то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чтобы освободиться о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ласти Ор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494172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952720" cy="388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76320" y="404640"/>
            <a:ext cx="74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В каком году русский народ оконч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вободился от чужеземного 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61560" y="207648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А)  В  1480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02600" y="314172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2" action="ppaction://hlinksldjump"/>
              </a:rPr>
              <a:t>Б)  В  1237 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423540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3" action="ppaction://hlinksldjump"/>
              </a:rPr>
              <a:t>В)  В  1783 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260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e7500"/>
                </a:solidFill>
                <a:latin typeface="Arial"/>
              </a:rPr>
              <a:t>Проверочный тест к уроку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3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80000" y="436572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e7500"/>
                </a:solidFill>
                <a:latin typeface="Arial"/>
              </a:rPr>
              <a:t>«Слово о погиб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e75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9e7500"/>
                </a:solidFill>
                <a:latin typeface="Arial"/>
              </a:rPr>
              <a:t>русской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00320" y="1916280"/>
            <a:ext cx="4804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Руси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таро – монголь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ов постеп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ела, и в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480 год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на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нчательно освоб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чужеземного и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98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49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530064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48360" y="1341360"/>
          <a:ext cx="363384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41360"/>
                    <a:ext cx="3633840" cy="32259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88000" y="465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усские князья в сто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ана Золотой Орды получают разрешение править своими княже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bc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6520" y="2637000"/>
            <a:ext cx="513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ней осенью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37  г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к Чингисхана Ба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л к русским границ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ое вой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232000" cy="410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2847960" y="47628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400" y="2373480"/>
            <a:ext cx="793332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 успешной Русско-турецк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68 – 1774 годов правительство Екатери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удило крымского хана сложить с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сть, и в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783  го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ым присоедин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7040" y="42552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3440" y="333360"/>
            <a:ext cx="661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каком князе русский на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вободился от чужеземного 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8560" y="2349360"/>
            <a:ext cx="80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А) При новгородском князе Александ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240" y="3573360"/>
            <a:ext cx="70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hlinkClick r:id="rId2" action="ppaction://hlinksldjump"/>
              </a:rPr>
              <a:t>Б) При московском князе Иване </a:t>
            </a: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3" action="ppaction://hlinksldjump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2600" y="459576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4" action="ppaction://hlinksldjump"/>
              </a:rPr>
              <a:t>В) При князе Владимире Красн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00"/>
                </a:solidFill>
                <a:uFillTx/>
                <a:latin typeface="Times New Roman"/>
                <a:hlinkClick r:id="rId5" action="ppaction://hlinksldjump"/>
              </a:rPr>
              <a:t>    Солныш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43240" y="2325600"/>
            <a:ext cx="48412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При новгородском княз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Александ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прозванног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оде Невским, произош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тва на льду Чудского оз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торая получила наз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довое побо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4320" y="54936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417760" cy="463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80680" y="1773360"/>
            <a:ext cx="567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нчательное освоб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го народа от чужезе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а произош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вели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сковском князе Иван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й перестал повино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сти ханов и создал си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е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91240" y="49860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472428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413000"/>
          <a:ext cx="2700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2700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921040" y="49860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7440" y="1989000"/>
            <a:ext cx="4883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988 год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нязь Влади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расное Солныш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в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Руси новую религию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истианство. Князь реш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если Русь тоже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истианской, ей буд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раздо удоб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говариваться с сосед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5640" y="2276640"/>
          <a:ext cx="3465360" cy="32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276640"/>
                    <a:ext cx="3465360" cy="3211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70000" y="735120"/>
            <a:ext cx="69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ход монголо – татар возглавил ха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25280" y="207648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А)    Чингисх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4360" y="289872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Б)     Ба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6360" y="373212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В)    Тамер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64320" y="620640"/>
            <a:ext cx="2937600" cy="703440"/>
          </a:xfrm>
          <a:prstGeom prst="rect">
            <a:avLst/>
          </a:prstGeom>
          <a:solidFill>
            <a:srgbClr val="fff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4520" y="2708280"/>
            <a:ext cx="498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нгисх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 созд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ную армию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отел завоевать весь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умел захватить да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т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85880" cy="403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46880" y="54936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56536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атый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к Чингисх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большим войском пошёл покорять Евро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232000" cy="410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11280" y="479736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92680" y="47628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8680" y="1557360"/>
            <a:ext cx="480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ерлан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ж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голо – тюрского р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вшего на землях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ю реки Кашка-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ерлан взял в п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сейна и казнил 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воив себе его тит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1341360"/>
          <a:ext cx="277020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2770200" cy="4033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63240" y="476280"/>
            <a:ext cx="682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Какой город первым оказался на пу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голо – тат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2200" y="17874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А)   Ряз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440" y="2781360"/>
            <a:ext cx="30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Б)   Влади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4160" y="386064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7500"/>
                </a:solidFill>
                <a:latin typeface="Times New Roman"/>
              </a:rPr>
              <a:t>В)   Новго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38880" y="42084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МОЛОДЕЦ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2748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31240" y="1989000"/>
            <a:ext cx="461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декабря 123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пятидневной о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язань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яли штур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 монголы сожгли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телей перебили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ели в рабство.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лели ни женщ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797360"/>
            <a:ext cx="1214280" cy="1214640"/>
          </a:xfrm>
          <a:prstGeom prst="diamond">
            <a:avLst/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1413000"/>
          <a:ext cx="403200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4032000" cy="29336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64320" y="404640"/>
            <a:ext cx="29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e7500"/>
                </a:solidFill>
                <a:latin typeface="Arial"/>
              </a:rPr>
              <a:t>ПОДУМ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5120" y="217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316240"/>
            <a:ext cx="43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ыл вз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зятия Коломны, Москвы, Твери.    Завоев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ушили и сожгли прекрасные русские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3280" y="1484280"/>
          <a:ext cx="425772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84280"/>
                    <a:ext cx="4257720" cy="31338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532720" y="6237360"/>
            <a:ext cx="409680" cy="433440"/>
          </a:xfrm>
          <a:prstGeom prst="rect">
            <a:avLst/>
          </a:prstGeom>
          <a:solidFill>
            <a:srgbClr val="9e7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3:06:21Z</dcterms:created>
  <dc:creator>Пас</dc:creator>
  <dc:description/>
  <dc:language>en-US</dc:language>
  <cp:lastModifiedBy>user</cp:lastModifiedBy>
  <dcterms:modified xsi:type="dcterms:W3CDTF">2009-01-07T07:08:58Z</dcterms:modified>
  <cp:revision>27</cp:revision>
  <dc:subject/>
  <dc:title>                 Проверочный тест      по истории   4 класс          ( к урокам  6  и 9)</dc:title>
</cp:coreProperties>
</file>